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883B-F074-4674-A463-0A850C90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B2B-1E9A-4105-B8EC-24DCF892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activities should be based on the child’s age, abilities, strengths/weaknesses, cultural and social background, and personal interes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programs focus on the “whole child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C33-B0C8-442D-A9BF-580B487F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amilies no longer have a mother as a homemaker and father as a wage ear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Smaller family size = more money to spend on child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en couples have children later, they are in a better position financially to afford early childhood care progra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0A8-614B-48F1-8F37-46DBB743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630-728C-4455-9DCE-96A6B62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8C0-4EA1-4BB0-BF0A-AE65829F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965-536F-4F67-AFDC-B9C50A2E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6FD6-D23E-4838-8327-A65C2A2E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5F64-CAF9-4CE5-AB21-980528A4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B856-1E4F-438A-ABED-9335497D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494-433B-494E-BFC8-AC56BC8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CE1C-18A2-4F71-93A1-051CBE4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72B8-1B9A-401F-8607-ED6C62A2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052-21D0-42A0-A2F6-CB66D976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EEF-6392-4B46-9CA0-AAEDF9E3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3D29-504D-4686-BDD7-170E02D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C31-3B2A-4734-A18F-532A774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37B9-210E-472A-9223-A63AAA4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F3DB-6683-47F5-B8F6-4F7405E8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DC74-F6AF-4C1D-8A03-5FE11B45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A7F-6AFE-4668-925A-AE0D388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46F-D036-4423-B3C7-ED518CA8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DD5-D02D-4F89-8BCB-0C0EED5A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456-6186-465B-A03A-729C6AF4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A68-2588-440F-8432-D58057FE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2FE-295D-406B-B6C5-FECE21D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96E-2D2B-4EA0-9663-D63EC364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3AD-9BFF-4E2A-BC42-A47F039FA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928-FCA7-4173-8564-90FD5B371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You: Working with Young Child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pter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676520" y="5257800"/>
            <a:ext cx="603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apted from “Working with Young Children” by Judy Her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reer Opportunities in Early Childho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nn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 pai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dergarten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rly childhood assistant and associate teac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 care teachers and direct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child care 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ground design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’s libraria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espeople of children’s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educa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’s artis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nn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vides care in a child’s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nannies live in the child’s hom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ise” the chil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nannies come from other countr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 Pair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person from a foreign country who lives with a family and performs tasks similar to those of a nan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xchange for weekly pay, room, board and transportation, the au pair provides child care and may do housewor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indergarten Teache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ed in public and private school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ny child care centers hire kindergarten teacher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rly Childhood Assistant and Associate Teach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upport and assistance to the lead teacher in providing developmentally appropriate curriculum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an entry level 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give experience needed to advance to the lead teacher 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Care Teachers and Director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is responsible for planning curriculum and teaching child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ector is responsible for marketing the program, recruiting children, hiring and supervising staff, and managing the budge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mily Child Care Hom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care for children age 6 weeks to 12 yea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 child care provider to work from hom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ten has longer hours of op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melike atmosphe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 providers can also care for their own child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ployed by the sta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ir role is to protect and promote the health, safety and welfare of children attending centers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09800" y="1752480"/>
            <a:ext cx="377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s visits to assigned cen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center following state licensing guidelines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w many children are in facility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adult-child ratio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size of the facility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at is the quality of food service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the appropriate curriculum being provided?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ilding safety, health practices, educational preparedness of staff and physical space are monitored as w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Career Opportun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ent educator – work with parents to help them learn parenting skil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ty recreation l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ldren’s art, dance, music and sports instru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ial wor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sel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api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repreneur – a person who creates and runs their own busin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common is a family child care hom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: consultant, store own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cation and Training Needed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entry-level positions (i.e., playground supervisor, teacher’s aide) require a high school dipl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require training and educational beyond high school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 one is to obtain the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ild Development Associate (CDA) Credenti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 national credential that requires postsecondary courses in child care education and have demonstrated the ability to work with young childre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achers usually required to have a bachelor’s degree in ECE, child development or a closely related fiel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jobs require a graduate degre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sultan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earch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rly childhood instructors and profess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state establishes its own qualifications for staff working in child care center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lifications depend on position desired and locatio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Vocabul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ly childho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kindergarten (PK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n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 pa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censing special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repreneu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ment Associate (CDA) Credentia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mentally appropriate practice (D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thic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DA Histor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ted in 1971 for the purpose of improving the quality of child 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designed to assess and credential early care and education professionals based on performa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DA Eligibility Requir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029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 years old with a high school dipl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ademic ski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ed statement of ethical condu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-approved cen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be the head caregiver for 8 or more children ages 3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children must be enrolled in program and two caregivers pres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ore than 20% of children can have special nee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2280" y="190512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least 480 hours work experience with 3-5 year ol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0 clock hours divided among different program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ld Development Associate Credential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etency Goals:  establish the framework for caregiver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are there?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al Areas describe the major tasks or functions must complete in order to carry out the competency go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are there? 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 developmentally appropriate curriculum throug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evelopmentally appropriate practi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et of guidelines that focus on the outcomes of learning activ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d on the idea that children learn from pl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hasizes knowing children well and respecting th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e the environmen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st encourage children to independently experiment, explore and manipul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 a variety of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e Effectivel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ve communication will help you form and maintain a close relationship with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 communication with parents and caregi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 meaningful relationships with colleagu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onstrate Team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as a team with your colleagues by respecting the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your cowork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lict resolution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s teachers work smart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priorit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nguish between important and urgent mat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e in Professional Organizat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ep current in the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EYC (National Association for the Education of Young Children) is the primary organization for the early childhood fiel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ethical standar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thics are a guiding set of moral princip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ght vs. wro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eacher’s Responsibil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continue to lear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erenc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how children grow and develo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are characteristics of a successful teacher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ndness for child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child should fee understood and accep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part of their social development, children need to be taught that people and feelings are impor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ie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children time to explore, solve problems and cre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often learn through repet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early childhoo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vers the period from birth to nine years of ag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this time, growth is very rap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ld develops a sense of self, as well as language, cognitive, social, emotional, problem-solving and social skill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pt others without prejudi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sensitive to both positive and negative feelings the children exp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iment children for their suc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children understand feeling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tivate children to respect each othe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s you to relax in the classro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nd by your decisions and children will accept them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se of humo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enjoy adults who laug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ve teacher = positive stu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work more enjoy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sure to laug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itme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onstantly study to keep up with current developments in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paring for daily teaching is time consu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acteristics of a Successful Teach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Desi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have doub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need to feel that working with children is rewarding for yo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al and Mental Heal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t nutritious me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lenty of sl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physically 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stress relie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 Review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 percentages of child care in the 1970s vs. toda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s in families that affect child c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 of corporate childc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early learning experi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ble to describe 5 career opportunities in early childh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 able to describe a family child care ho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igibility requirements for a C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DA functional areas vs. competency go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pter 1 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at least 3 responsibilities and 3 characteristics of a successful teach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 your vocabulary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pularity of early childhood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1970s, only 6% of children were cared for in child care cen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day, 67% participate in an early childhood progr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5% of the nation’s five-year-olds attend kindergarten programs for at least ½ the d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and Economic Chang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changes will affect the need for and structure of child care servi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changes includ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loyers’ attitu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ttitud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al studi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nefits to the econom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Famil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matic change in the past 25 yea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men are becoming more highly educ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ples are having fewer child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ng adults are getting married later in lif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families need a second payche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men are demonstrating an increased commitment to 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lies see the value of having children attend an early childhood prog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Employers’ Attitud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porate/employer-sponsored child care is one of the fastest growing types of child c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providing some type of child care benefit, companies see an increase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enteeism is re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ter public re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x benef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se of schedul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roved quality of workfor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in Education Attitud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s are becoming more aware of their children’s developmental nee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result, they are seeking quality environments that promote their children’s growth and develo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s show children in full-day kindergarten programs do better academically and socially during the primary year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ucational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7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first 5 years of life are critical in develop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who are involved in early learning experiences are more successful in school, as well as later in lif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ildren who have a good start are less likely to have behavioral proble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ss likely to be referred to special educa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rned better grad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graduated from high school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ording to research, many states are introducing prekindergarten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K refers to the full range of early childhood program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including school and home based child care, preschool, and Head Start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23:04:33Z</dcterms:created>
  <dc:creator>Eliss Herman</dc:creator>
  <dc:description/>
  <dc:language>en-US</dc:language>
  <cp:lastModifiedBy>Eliss Herman</cp:lastModifiedBy>
  <dcterms:modified xsi:type="dcterms:W3CDTF">2013-08-12T18:47:22Z</dcterms:modified>
  <cp:revision>8</cp:revision>
  <dc:subject/>
  <dc:title>You: Working with Young Children</dc:title>
</cp:coreProperties>
</file>